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793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4624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434520" y="1233360"/>
            <a:ext cx="592164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937728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4624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223F-EA93-4448-96BE-D78705457A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77B1-856F-4F8A-950C-A2DAABFCE4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FA4F-F4C2-4013-BE73-96238AC3F2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8823-5DEC-410E-8FA3-EF5401597E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3A91-E2C3-4D7A-B13C-304200A5FE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1FC3-8DF3-454D-810E-9A8122C57D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D396-5326-4622-810D-ABD6AA6EE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000A-B6F8-43BA-9ACD-A0636726BA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8772-9A24-417A-851F-859BA2CF27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8D65-72A0-4C67-9762-A08F03775B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3606-9EC7-4A3F-91EA-F664F197B3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9FFD-31FC-4A2D-86D7-1E89BE1F82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94D5-A704-4431-BD76-FB83D7B689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3E74-3F6C-488A-8136-008B26774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47C4-FCE5-4C87-8F4A-2EB41EF81A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F10C-7C49-4986-9228-644C100079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711A-C879-48F4-93E3-A7E8CFCA06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AD6F-8488-436D-9BE6-ADCE502F09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DCA5-AB96-4F13-A27F-34C3F5703B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B00E-113C-4C50-A663-5C6C8A1429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F6FC-CFEF-4C46-AD55-B7A177FAB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14CB-EAB2-4C49-9CDD-83E30FEACE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531F-754A-4EBC-A04C-48BAD89BA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6CD-D36D-42BD-82F7-708A19FF1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590-80F5-4C9D-BFD9-E45A99E5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D87-DA47-4B6E-B369-88632B99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6A9-6AE1-493E-9F30-F91C5730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6CE-B7AF-47A4-95A1-1D3C2717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5C89-3BE3-45E6-B208-883261D4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9284-52E9-470E-8287-5F9E35B6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CF25-F3E6-4F24-86DC-07C42302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0CF8-42C6-4204-B176-FA95B0FB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206B-ECB3-4592-9C97-98D515B1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F1D5-B000-4B0C-B9B2-FE81D990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59A5-4D76-4E5C-83D2-93F15B3C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07B-8C54-4346-9DF5-9A407566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51AF-E639-48D2-94D0-027DA1BE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EFB3-0B00-4B11-A386-4497A65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F6CB-5EEA-4576-8128-EDC3BBA5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B1E3-7CFA-46FA-BFE0-D281CF22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3359-8311-4FAA-A6DF-9DAE46A2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54B7-00DD-4B16-9EBD-9528B79C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CF5D-A5AE-45AE-8F91-6659B96E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F4D1-B96F-4A49-A08D-AF307B46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7917-FBBA-46C3-9CE5-62CA90F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2603-4244-4224-AE8C-5C06905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01C-39FB-40F6-A4D0-3BB8F169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B511-BB15-4FD2-8B36-C856060A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26886-E852-41FB-87B8-FF0A8D5F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FDE0-C688-44C7-BDB7-DE6902E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9E35-08C2-4E9F-B22C-667135B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E0C1-A220-484F-BB62-20955558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9E55-DC72-4C65-93D9-5F426D7E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C518-588E-4052-B538-47B8DAE3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27398-D7FC-435D-9C0C-5636FB91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5A20-FAAB-4277-AB17-E5256AA4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ED120-39A7-43C3-B626-DA78CB78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D7A-C5ED-48F1-A5ED-6628F76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E9B4-6685-4591-9901-45413153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7654-A724-494D-B20E-C766FAE1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26AF6-EB68-4E24-BF6C-11D9507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0CD1-95A6-4DB1-B2E0-DE695FAD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8C034-CD84-46B2-A38A-6ED4EAA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802C-1D07-427A-9DB3-6C81CD11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66E6-DB8F-4445-B362-6335C538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F494-0DD8-4572-AD91-2CD6654F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05AD-34F1-4C65-80A3-BA8DB133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901-44B4-4145-BAEE-A801F0E5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6E0-26E8-434C-9968-C2FD77CE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9BA-C461-44ED-B7B9-E525765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702-F737-462F-B413-CF4EE290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5B1-7518-41C0-830A-75C99BE3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FFE5-9510-41BD-B4E6-95C9FBD9DFFE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09D4-8876-482B-A61D-91C13B119C9A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EC67-6EAF-458C-9541-FDF3BBEA2464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9A05-6A56-4F07-81A1-0F4E8DF2B26E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D0F26EE847ABDC438AE7857713BA7127EF6403C08E45B9646AB34EF239DDFDDBAFB9FB0E2AF9626CC34AB32FFEDC5E12815ED0E5F3BD4FCZCwEK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dsoo.ru/Normativnie_dokumenti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2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4760" y="667800"/>
            <a:ext cx="67183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чебного плана в условиях перехода на новые федеральные государственные образовательные стандарты начального общего и основного общего образования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416400" y="6021360"/>
          <a:ext cx="4948200" cy="485640"/>
        </p:xfrm>
        <a:graphic>
          <a:graphicData uri="http://schemas.openxmlformats.org/drawingml/2006/table">
            <a:tbl>
              <a:tblPr/>
              <a:tblGrid>
                <a:gridCol w="49482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г.Тве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1560" y="902880"/>
            <a:ext cx="99806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347760" y="1537560"/>
            <a:ext cx="111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ведено понятие «учебный модуль»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содержания образования, в пределах которой осуществляется освоение относительно самостоятельного тематического блока учебного предмета или учебного курса либо нескольких взаимосвязанных разде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1000" y="2570040"/>
          <a:ext cx="11296440" cy="4292640"/>
        </p:xfrm>
        <a:graphic>
          <a:graphicData uri="http://schemas.openxmlformats.org/drawingml/2006/table">
            <a:tbl>
              <a:tblPr/>
              <a:tblGrid>
                <a:gridCol w="5637240"/>
                <a:gridCol w="5659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одного из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православн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слам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буддий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удейской культуры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религиозных культур народов России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светской э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3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духовно-нравственной культуры народов Росс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явлению обучающихся, родителей (законных представителей) несовершеннолетних обучающихся осуществляется выбор одного из учебных курсов (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з перечня, предлагаемого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57040" y="1063080"/>
            <a:ext cx="10036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18. Печатные и электронные образовательные и 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4. Организации, осуществляющие образовательную деятельность по имеющим государственную аккредитацию образовательным программам начального общего, основного общего, среднего общего образования, для использования при реализации указанных образовательных программ выбир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числа входящих в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федеральный перечень учеб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в ред. Федерального </a:t>
            </a: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закона от 02.12.2019 № 403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пособ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ыпущенны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ганизациями, входящими в перечень организаций, осуществляющих выпуск учебных пособ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ые допускаются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началь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Влияние санитарно-эпидемиологических нормативов на определение трудоемкости учебн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371520" y="2003400"/>
            <a:ext cx="104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становление Главного государственного санитарного врача РФ от 28.01.2021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«Об утверждении санитарных правил и норм СанПиН 1.2.3685-21 "Гигиенические нормативы и требования к обеспечению безопасности и (или) безвредности для человека факторов среды обит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лица 6.6 Требования к организац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04920" y="3546360"/>
          <a:ext cx="10279080" cy="3338640"/>
        </p:xfrm>
        <a:graphic>
          <a:graphicData uri="http://schemas.openxmlformats.org/drawingml/2006/table">
            <a:tbl>
              <a:tblPr/>
              <a:tblGrid>
                <a:gridCol w="3409920"/>
                <a:gridCol w="1576440"/>
                <a:gridCol w="2722320"/>
                <a:gridCol w="2570400"/>
              </a:tblGrid>
              <a:tr h="1465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ельность дневной суммарной образовательной нагрузки для обучающихс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2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3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урока и 1 раз в неделю - 5 уро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01560" y="1603440"/>
            <a:ext cx="1088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Формы промежуточ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601560" y="2481120"/>
            <a:ext cx="987264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Минпросвещения России №СК-228/03, Рособрнадзора №01-169/08-01 от 06.08.2021 «О направлении Рекомендаций» (вместе с «Рекомендациями для системы общего образования по основным подходам к формированию графика проведения оценочных процедур в общеобразовательных организациях в 2021/2022 учебном году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28/08-01 «О переносе сроков проведения ВПР в общеобразовательных организациях в 2022 год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31/08-01 (дополнение к письму Рособрнадзора от 22.03.2022 №1-28/08-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1560" y="13564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) Разработка и реализация индивидуальных учеб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85640" y="1925640"/>
            <a:ext cx="978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3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ндивидуальный учебный пл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ебный план, обеспечивающий освоение образовательной программы на основе индивидуализации ее содержания с учетом особенностей и образовательных потребностей конкретного 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3530520"/>
          <a:ext cx="12192120" cy="3506760"/>
        </p:xfrm>
        <a:graphic>
          <a:graphicData uri="http://schemas.openxmlformats.org/drawingml/2006/table">
            <a:tbl>
              <a:tblPr/>
              <a:tblGrid>
                <a:gridCol w="4389480"/>
                <a:gridCol w="7802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8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чального общего образова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4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началь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ого общего образован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5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учающихся с ОВЗ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бучении по адаптированным программам основного общего образования, независимо от применяемых образовательных технологий, срок получения основного общего образования может быть увеличен, н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чем до 6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основ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чие програм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85840" y="1498680"/>
          <a:ext cx="10961640" cy="5359320"/>
        </p:xfrm>
        <a:graphic>
          <a:graphicData uri="http://schemas.openxmlformats.org/drawingml/2006/table">
            <a:tbl>
              <a:tblPr/>
              <a:tblGrid>
                <a:gridCol w="5479920"/>
                <a:gridCol w="5481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71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1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рограммы учебных предметов, учебных курсов (в том числе внеурочной деятельности), учебных модул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лжны включа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матическое планирова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казанием 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а академических часов, отводимых на освоение каждой тем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 и </a:t>
                      </a:r>
                      <a:r>
                        <a:rPr b="1" i="1" lang="ru-RU" sz="22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можность использования по этой теме электронных (цифровых) образовательных ресурс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ющихся учебно-методическими материалами (мультимедийные программы, электронные учебники и задачники, электронные библиотеки, виртуальные лаборатории, игровые программы, коллекции цифровых образовательных ресурсов), используемыми для обучения и воспитания различных групп пользователей, представленными в электронном (цифровом) виде и реализующими дидактические возможности ИКТ, содержание которых соответствует законодательству об образова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79" name="Рисунок 1" descr=""/>
          <p:cNvPicPr/>
          <p:nvPr/>
        </p:nvPicPr>
        <p:blipFill>
          <a:blip r:embed="rId1"/>
          <a:stretch/>
        </p:blipFill>
        <p:spPr>
          <a:xfrm>
            <a:off x="5486400" y="1089000"/>
            <a:ext cx="4745160" cy="57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50920" y="1089000"/>
          <a:ext cx="5327640" cy="4846680"/>
        </p:xfrm>
        <a:graphic>
          <a:graphicData uri="http://schemas.openxmlformats.org/drawingml/2006/table">
            <a:tbl>
              <a:tblPr/>
              <a:tblGrid>
                <a:gridCol w="2878200"/>
                <a:gridCol w="24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К и С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</a:tr>
            </a:tbl>
          </a:graphicData>
        </a:graphic>
      </p:graphicFrame>
      <p:sp>
        <p:nvSpPr>
          <p:cNvPr id="281" name="Прямоугольник 4"/>
          <p:cNvSpPr/>
          <p:nvPr/>
        </p:nvSpPr>
        <p:spPr>
          <a:xfrm>
            <a:off x="0" y="5934240"/>
            <a:ext cx="63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работан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дной язык/литера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торой иностранный язы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ро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адии разработ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ОДНК НР, программы углублен.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началь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330200" y="1657440"/>
          <a:ext cx="7593120" cy="5337000"/>
        </p:xfrm>
        <a:graphic>
          <a:graphicData uri="http://schemas.openxmlformats.org/drawingml/2006/table">
            <a:tbl>
              <a:tblPr/>
              <a:tblGrid>
                <a:gridCol w="3962520"/>
                <a:gridCol w="909720"/>
                <a:gridCol w="909720"/>
                <a:gridCol w="911160"/>
                <a:gridCol w="9000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 на родном я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бразительное искус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164880"/>
            <a:ext cx="1015200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6870600" y="3191040"/>
            <a:ext cx="36752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(7-9 классы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– по 102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 – по 68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 – по 34 ча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20840" y="1622520"/>
          <a:ext cx="6281640" cy="5302080"/>
        </p:xfrm>
        <a:graphic>
          <a:graphicData uri="http://schemas.openxmlformats.org/drawingml/2006/table">
            <a:tbl>
              <a:tblPr/>
              <a:tblGrid>
                <a:gridCol w="2197080"/>
                <a:gridCol w="820440"/>
                <a:gridCol w="901800"/>
                <a:gridCol w="785880"/>
                <a:gridCol w="905040"/>
                <a:gridCol w="671400"/>
              </a:tblGrid>
              <a:tr h="228600">
                <a:tc rowSpan="2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ая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092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6172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2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К 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ая рабочая программа в стадии раз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образовательные программы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основные образовательные программы</a:t>
            </a:r>
            <a:br>
              <a:rPr sz="2800"/>
            </a:br>
            <a:br>
              <a:rPr sz="2800"/>
            </a:b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s://edsoo.ru/Normativnie_dokumenti.htm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(протокол ФУМО от 18.03.2022 №1/22)</a:t>
            </a:r>
            <a:br>
              <a:rPr sz="20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е основные образовательные програм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мещены в Федеральном реестр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х основных общеобразовательных программ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fgosreestr.ru</a:t>
            </a: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88" name="Рисунок 3" descr=""/>
          <p:cNvPicPr/>
          <p:nvPr/>
        </p:nvPicPr>
        <p:blipFill>
          <a:blip r:embed="rId2"/>
          <a:srcRect l="34761" t="14992" r="10908" b="4460"/>
          <a:stretch/>
        </p:blipFill>
        <p:spPr>
          <a:xfrm>
            <a:off x="6170760" y="1496880"/>
            <a:ext cx="4130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261720"/>
            <a:ext cx="794052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рмативно-правовое обеспечение.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6760" y="858960"/>
            <a:ext cx="11363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        31.05.2021 № 286 «Об утверждении федерального государственного образовательного стандарта начального общего образования»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31.05.2021 № 287 «Об утверждении федерального государственного образовательного стандарта основного общего образования»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НОО.Одобрена решением федерального учебно-методического объединения по общему образованию, протокол от 18 марта 2022 г. № 1/22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ООО.Одобрена решением федерального учебно-методического объединения по общему образованию, протокол от 18 марта 2022 г. № 1/22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rebuchet MS"/>
              </a:rPr>
              <a:t>СанПи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7040" y="299880"/>
            <a:ext cx="1012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601560" y="1327320"/>
            <a:ext cx="1088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601560" y="2481120"/>
            <a:ext cx="917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ц с ограниченными возможностями здоровь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94" name="Таблица 4" descr=""/>
          <p:cNvPicPr/>
          <p:nvPr/>
        </p:nvPicPr>
        <p:blipFill>
          <a:blip r:embed="rId1"/>
          <a:stretch/>
        </p:blipFill>
        <p:spPr>
          <a:xfrm>
            <a:off x="176040" y="1847880"/>
            <a:ext cx="10236240" cy="34624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50920" y="5408640"/>
            <a:ext cx="104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уровне начального общего образования реализуется ФГОС НОО ОВЗ, утвержденный приказом Минобрнауки России от 19.12.2014  №15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33.1 ФГОС ООО</a:t>
            </a:r>
            <a:br>
              <a:rPr sz="20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50920" y="2171880"/>
          <a:ext cx="9896400" cy="4698720"/>
        </p:xfrm>
        <a:graphic>
          <a:graphicData uri="http://schemas.openxmlformats.org/drawingml/2006/table">
            <a:tbl>
              <a:tblPr/>
              <a:tblGrid>
                <a:gridCol w="3057480"/>
                <a:gridCol w="683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ающие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е изменения в учеб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с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 обязательных для изучения учебных предметов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предметную область «Русский язык и литература» обязательного для изучения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витие реч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, с Н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оков и продолжительност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я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остранного я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бучающиеся 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ение учебного предмета «Физическая культура» и включение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даптивная физическая 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ичнос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1 ФГОС НОО, п. 42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87360"/>
          <a:ext cx="12192120" cy="5570640"/>
        </p:xfrm>
        <a:graphic>
          <a:graphicData uri="http://schemas.openxmlformats.org/drawingml/2006/table">
            <a:tbl>
              <a:tblPr/>
              <a:tblGrid>
                <a:gridCol w="4687920"/>
                <a:gridCol w="750420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2754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Личностные результаты освоения ООП Н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формирование основ российской гражданской идентичности, чувства гордости за свою Родину, российский народ и историю России, осознание своей этнической и национальной принадлежности; формирование ценностей многонационального российского общества; становление гуманистических и демократических ценностных ориен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формирование целостного, социально ориентированного взгляда на мир в его органичном единстве и разнообразии природы, народов, культур и религ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формирование уважительного отношения к иному мнению, истории и культуре других народо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1.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ичностные результа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программы НОО должны отражать готовность обучающихся руководствоваться ценностями и приобретение первоначального опыта деятельности на их основе, в том числе в ча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1.1.1. Гражданско-патриотического воспит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ие ценностного отношения к своей Родине - Росс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ние своей этнокультурной и российской гражданской идентич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ичастность к прошлому, настоящему и будущему своей страны и родного кра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 к своему и другим народ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е представления о человеке как члене общества, о правах и ответственности, уважении и достоинстве человека, о нравственно-этических нормах поведения и правилах межличностных отнош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уховно-нравственн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стет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ческого воспитания, формирования культуры здоровья и эмоционального благополуч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удов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колог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ности научного позн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2 ФГОС НОО, п. 43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1287360"/>
          <a:ext cx="12192120" cy="565812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6064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612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своения программы ООО, в том числе адаптированной, должны отража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1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познаватель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азовые логические действ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базовые исследовательские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работа с информ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коммуника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ая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регуля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рганизац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интеллек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ебя и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1120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ная основная образовательная программ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основного общего образования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процедурой итоговой оценки достижения метапредметных результатов являет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итогового индивидуального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ая может рассматриваться ка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уск к  ГИ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е заимствования текста работ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лагиата)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указания ссылок на источни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к защите не допускаетс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уществляется в процессе специально организованной деятельност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ссии образовательной организ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школьной конференц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выполнения прое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ются по итогам рассмотрения комиссией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енного проду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раткой пояснительной запиской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егося 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зыва руководител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3 ФГОС НОО, п. 44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1287360"/>
          <a:ext cx="12192120" cy="668520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390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Предметные результаты по учебному предмету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"Иностранный язык"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й области "Иностранный язык" должны быть ориентированы на применение знаний, умений и навыков в типичных учебных ситуациях и реальных жизненных условиях, отражать сформированность иноязычной коммуникативной компетенции на элементарном уровне в совокупности ее составляющих - речевой, языковой, социокультурной, компенсаторной, метапредметной (учебно-познавательной) и должны обеспечи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ое чтение: читать вслух и понимать учебные и адаптированные аутентичные тексты объемом до 80 слов, построенные на изученном языковом материале, соблюдая правила чтения и правильную интонацию; читать про себя и понимать основное содержание учебных и адаптированных аутентичных текстов объемом до 160 слов, содержащих отдельные незнакомые слова, не препятствующие решению коммуникативной задачи; определять тему, главную мысль, назначение текста; извлекать из прочитанного текста запрашиваемую информацию фактического характера (в пределах изученного); читать несплошные тексты (простые таблицы) и понимать представленную в них информац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ая речь: владеть техникой письма; заполнять простые анкеты и формуляры с указанием личной информации в соответствии с нормами, принятыми в стране/странах изучаемого языка; писать электронное сообщение личного характера объемом до 40 слов с опорой на предъявленный педагогическим работником образе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01560" y="903240"/>
            <a:ext cx="99806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04880" y="1219680"/>
            <a:ext cx="108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704880" y="1785960"/>
            <a:ext cx="9178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. При разработке основной общеобразовательной программы организация, осуществляющая образовательную деятельность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предусмотреть примен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соответствующей образовательной программ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календарного учебного граф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х рабочи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х предметов, курсов, дисциплин (модулей), включенных в соответствующую примерную основную общеобразовательную программу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этом случае такая учебно-методическая документация не разрабат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7.2 введена Федеральным законом от 02.07.2021 №32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1200" y="299880"/>
            <a:ext cx="867276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257040" y="1171440"/>
            <a:ext cx="971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просвещения Российской Федерации от 15.02.2022 №АЗ-113/03 «О направлении методических рекоменда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7040" y="2820960"/>
          <a:ext cx="9813960" cy="2290680"/>
        </p:xfrm>
        <a:graphic>
          <a:graphicData uri="http://schemas.openxmlformats.org/drawingml/2006/table">
            <a:tbl>
              <a:tblPr/>
              <a:tblGrid>
                <a:gridCol w="2536920"/>
                <a:gridCol w="824040"/>
                <a:gridCol w="772920"/>
                <a:gridCol w="720720"/>
                <a:gridCol w="735120"/>
                <a:gridCol w="798480"/>
                <a:gridCol w="876240"/>
                <a:gridCol w="836640"/>
                <a:gridCol w="811440"/>
                <a:gridCol w="90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/2023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/2024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/2025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57040" y="1047600"/>
            <a:ext cx="1032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6 «Об утверждении федерального государственного образовательного стандарта началь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344520" y="2719440"/>
            <a:ext cx="955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ункт 2 приказов №286 и №2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в соответствии с ФГОС обучение лиц, зачисленных до вступления в силу настоящего приказа, 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их соглас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обучающихся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численных до вступления в силу настоящего прик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согласия их родителей (законных представ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257040" y="1882800"/>
            <a:ext cx="99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7 «Об утверждении федерального государственного образовательного стандарта основ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8640" y="256680"/>
            <a:ext cx="8820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 в ФГОС-2009/2010 и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8960" y="725400"/>
            <a:ext cx="955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ой организации образовательной деятельности в соответствии с обновленными ФГОС НОО и ФГОС ООО остается системно-деятельностный подход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храняется привычная структура образовательной программы, рабочих программ и курсов внеурочной деятельност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ется неизменной структура требований к результатам реализации основных образовательных программ, состоящая из групп требований к предметным, метапредметным и личностным результата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комплексных образовательных результатов осуществляется посредством использования в образовательном процессе проектной деятель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9560" y="2557080"/>
            <a:ext cx="77677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endParaRPr b="0" lang="en-US" sz="4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84240" y="609480"/>
            <a:ext cx="73900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58960" y="1157400"/>
            <a:ext cx="936144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90400" y="2292480"/>
          <a:ext cx="9630000" cy="3909960"/>
        </p:xfrm>
        <a:graphic>
          <a:graphicData uri="http://schemas.openxmlformats.org/drawingml/2006/table">
            <a:tbl>
              <a:tblPr/>
              <a:tblGrid>
                <a:gridCol w="3210120"/>
                <a:gridCol w="3209760"/>
                <a:gridCol w="321012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2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04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34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54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9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267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020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58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1"/>
          <p:cNvSpPr/>
          <p:nvPr/>
        </p:nvSpPr>
        <p:spPr>
          <a:xfrm>
            <a:off x="809640" y="14644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Изменилось общее количество часов за весь период обучения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84240" y="210600"/>
            <a:ext cx="7390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6280" y="791640"/>
            <a:ext cx="974556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412920" y="1395360"/>
            <a:ext cx="10370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ой язык и родная литература/литературное чтение на род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2.1 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ля Организаций, в которых языком образования является русский язык, изучение родного языка и родной литературы из числа языков народов Российской Федерации, государственных языков республик Российской Федерации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озможностей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родителей (законных представителей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совершеннолетних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84240" y="200160"/>
            <a:ext cx="73900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1560" y="725400"/>
            <a:ext cx="9980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601560" y="1392120"/>
            <a:ext cx="912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торой иностра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зучение второго иностранного язык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 перечня, предлагаемого Организ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обучающихся, родителей (законных представителей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вершеннолетних обучающихся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 Организации необходимых услов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1200" y="188640"/>
            <a:ext cx="86727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1200" y="692280"/>
            <a:ext cx="912204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601560" y="1245600"/>
            <a:ext cx="10593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редм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Математика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ной области «Математика и информатика» включает в себ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кур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Алгебр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Геометрия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ероятность и статистик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222120" y="1020240"/>
            <a:ext cx="981576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о Министерства просвещения Российской Федерации от 11.11.2021 № 03-1899 «Об обеспечении учебными изданиями (учебниками и учебными пособиями) обучающихся в 2022/23 учебном год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период перехода на обновленные ФГОС-2021 могут быть использован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юбые учебно-методические комплекты, включенные в федеральный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п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2"/>
              </a:rPr>
              <a:t>еречен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* учеб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ри этом особое внимание должно быть уделено изменению методики преподавания учебных предметов при одновременном использовании дополнительных учебных, дидактических материалов, ориентированных на формирование предметных, метапредметных и личностных результа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 Минпросвещения России от 20.05.2020 №254 "Об утверждении федерального перечня учебников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 организациями, осуществляющими образовательную деятельность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редусмотрена дифференциация образования посредством введения профи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2216160"/>
          <a:ext cx="11296800" cy="4641840"/>
        </p:xfrm>
        <a:graphic>
          <a:graphicData uri="http://schemas.openxmlformats.org/drawingml/2006/table">
            <a:tbl>
              <a:tblPr/>
              <a:tblGrid>
                <a:gridCol w="4836960"/>
                <a:gridCol w="645984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0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бразовательной деятельности по ООП НОО может быть основана на делении обучающихся на группы и различное построение учебного процесса в выделенных группах с учетом их успеваемости, образовательных потребностей и интересов, психического и физического здоровья, пола, общественных и профессиональных целей, в том числе обеспечивающ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глубленное изучение отдельных предметных областей, учебных предмет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далее - дифференциация обуч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тивность содержания программ основного общего образования обеспечивается во ФГОС за сче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возможности разработки и реализации Организацией программ основного общего образования, в том числе предусматривающих углубленное изучение отдельных учебных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9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предметным результатам определяю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ам освоения программ основного общего образования по учебным предметам 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овом и углубленном уровн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9T11:52:24Z</dcterms:created>
  <dc:creator>Tatyana Nikolaevna Solovjeva</dc:creator>
  <dc:description/>
  <dc:language>en-US</dc:language>
  <cp:lastModifiedBy>ИМО</cp:lastModifiedBy>
  <cp:lastPrinted>2022-03-23T14:30:43Z</cp:lastPrinted>
  <dcterms:modified xsi:type="dcterms:W3CDTF">2022-05-26T13:30:27Z</dcterms:modified>
  <cp:revision>174</cp:revision>
  <dc:subject/>
  <dc:title>Качество образования – приоритетная задача современной школы</dc:title>
</cp:coreProperties>
</file>